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6F82-E81E-4297-93E5-2184A18CF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5B5E-0B1C-4497-A13D-C43495896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8772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6416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2-</a:t>
            </a:r>
            <a:fld id="{F89BF5A2-56E2-47EF-9134-5A2F1A99D18D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2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 Introduction to Cost Terms and Purpos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638680" y="1828800"/>
            <a:ext cx="3048120" cy="4267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in a Retail / Wholesale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5960" y="4190760"/>
            <a:ext cx="1898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nventoriabl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Product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7432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rchandi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27432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rchandi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2895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20574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37339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3124080"/>
            <a:ext cx="76176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441972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ing 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dministrative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55627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49568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441972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 rot="16200000">
            <a:off x="1409400" y="3161520"/>
            <a:ext cx="152280" cy="129564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350532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533412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295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come Stat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1295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lance Shee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46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in a Manufacturing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2117880"/>
            <a:ext cx="3048120" cy="4267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5105520"/>
            <a:ext cx="228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nventoriab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Product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60020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28195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k 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72200" y="318456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24224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0226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2096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3413160"/>
            <a:ext cx="53316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470844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ing 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dministrative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58514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4724280"/>
            <a:ext cx="1828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724280"/>
            <a:ext cx="228600" cy="838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 rot="16200000">
            <a:off x="1066680" y="3809880"/>
            <a:ext cx="152640" cy="1981440"/>
          </a:xfrm>
          <a:custGeom>
            <a:avLst/>
            <a:gdLst>
              <a:gd name="textAreaLeft" fmla="*/ 97560 w 152640"/>
              <a:gd name="textAreaRight" fmla="*/ 153000 w 15264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379404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562284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5880" y="15080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come Stat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66880" y="10666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lance Shee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1752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2743200"/>
            <a:ext cx="2209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8480" y="28195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33526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2438280"/>
            <a:ext cx="0" cy="3812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31240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828800" y="3505320"/>
            <a:ext cx="685800" cy="3045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any Meanings of Produ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ortant theme of this book is “different costs for different purposes”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ee examples of “product cost”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pricing and product empha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lude all costs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acting with government agenc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y exclude marketing costs and include only a portion of R&amp;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Stat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 GAAP, only manufacturing costs are included in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ernative Classifications of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siness fun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&amp;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tribu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ment to a 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8 - 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1447920"/>
            <a:ext cx="3886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haviour patter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ggregate or aver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ts or expens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io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and Cost Obj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resource sacrificed or foregone to achieve a specific objectiv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y product, machine, service or process for which cost information is accumula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s can vary in size from an entire company, to a division or program within the company, or down to a single product o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and Indire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related to a particular cost objective and can be traced to it in an economically feasible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related a particular cost objective but cannot be traced to it in an economically feasible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re allocated to cost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4419720"/>
            <a:ext cx="190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5470560"/>
            <a:ext cx="190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4495680"/>
            <a:ext cx="1600200" cy="16178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971800" y="4495680"/>
            <a:ext cx="2819520" cy="533520"/>
            <a:chOff x="2971800" y="4495680"/>
            <a:chExt cx="2819520" cy="533520"/>
          </a:xfrm>
        </p:grpSpPr>
        <p:sp>
          <p:nvSpPr>
            <p:cNvPr id="58" name=""/>
            <p:cNvSpPr/>
            <p:nvPr/>
          </p:nvSpPr>
          <p:spPr>
            <a:xfrm>
              <a:off x="2971800" y="5029200"/>
              <a:ext cx="2819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5320" y="4495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Tra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2388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971800" y="5638680"/>
            <a:ext cx="2819520" cy="459720"/>
            <a:chOff x="2971800" y="5638680"/>
            <a:chExt cx="2819520" cy="459720"/>
          </a:xfrm>
        </p:grpSpPr>
        <p:sp>
          <p:nvSpPr>
            <p:cNvPr id="62" name=""/>
            <p:cNvSpPr/>
            <p:nvPr/>
          </p:nvSpPr>
          <p:spPr>
            <a:xfrm>
              <a:off x="2971800" y="5638680"/>
              <a:ext cx="2819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05320" y="5638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Allocat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8576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Drivers and Cost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driver (cost generator or cost determinan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factor which causes the amount of cost incurred to chan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 costs are driven by the number of products produced, labour costs, number of setups required, and the number of change ord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4191120"/>
            <a:ext cx="80773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Reduction Programs focus on two thing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ing only value-added activitie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tly manage the use of cost drivers in those value-added activit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and Fixed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57150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constant per unit but changes in total in proportion to changes in the cost driver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(parts), fuel costs for a trucking compan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05720" y="1676520"/>
            <a:ext cx="0" cy="1447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3124080"/>
            <a:ext cx="17524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1600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3214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705720" y="1828800"/>
            <a:ext cx="1600200" cy="129528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04920" y="3886200"/>
            <a:ext cx="8839080" cy="2362320"/>
            <a:chOff x="304920" y="3886200"/>
            <a:chExt cx="8839080" cy="2362320"/>
          </a:xfrm>
        </p:grpSpPr>
        <p:grpSp>
          <p:nvGrpSpPr>
            <p:cNvPr id="76" name=""/>
            <p:cNvGrpSpPr/>
            <p:nvPr/>
          </p:nvGrpSpPr>
          <p:grpSpPr>
            <a:xfrm>
              <a:off x="6324480" y="4038480"/>
              <a:ext cx="2819520" cy="1982880"/>
              <a:chOff x="6324480" y="4038480"/>
              <a:chExt cx="2819520" cy="1982880"/>
            </a:xfrm>
          </p:grpSpPr>
          <p:sp>
            <p:nvSpPr>
              <p:cNvPr id="77" name=""/>
              <p:cNvSpPr/>
              <p:nvPr/>
            </p:nvSpPr>
            <p:spPr>
              <a:xfrm>
                <a:off x="6705720" y="4114800"/>
                <a:ext cx="0" cy="144792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705720" y="5562720"/>
                <a:ext cx="1752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324480" y="40384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$</a:t>
                </a:r>
                <a:endParaRPr b="0" lang="en-US" sz="1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848720" y="565308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Volume</a:t>
                </a:r>
                <a:endParaRPr b="0" lang="en-US" sz="1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705720" y="4876920"/>
                <a:ext cx="1523880" cy="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304920" y="3886200"/>
              <a:ext cx="579096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xed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cost which does not change in total as volume changes but changes on a per-unit basis as the cost driver increases and decrease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mortization, insuran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evant Range and Cost Behaviou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05560" cy="100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range of the cost driver in which the a specific relationship between cost and driver is vali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3322800"/>
            <a:ext cx="0" cy="16761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4998960"/>
            <a:ext cx="2133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170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089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3322800"/>
            <a:ext cx="0" cy="16761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4998960"/>
            <a:ext cx="2133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170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5075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523880" y="2666880"/>
            <a:ext cx="2362320" cy="3507840"/>
            <a:chOff x="1523880" y="2666880"/>
            <a:chExt cx="2362320" cy="3507840"/>
          </a:xfrm>
        </p:grpSpPr>
        <p:sp>
          <p:nvSpPr>
            <p:cNvPr id="100" name=""/>
            <p:cNvSpPr/>
            <p:nvPr/>
          </p:nvSpPr>
          <p:spPr>
            <a:xfrm flipV="1">
              <a:off x="2057400" y="3779640"/>
              <a:ext cx="91440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05120" y="2666880"/>
              <a:ext cx="121896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levan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23880" y="57150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Variable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943600" y="2666880"/>
            <a:ext cx="2438280" cy="3507840"/>
            <a:chOff x="5943600" y="2666880"/>
            <a:chExt cx="2438280" cy="3507840"/>
          </a:xfrm>
        </p:grpSpPr>
        <p:sp>
          <p:nvSpPr>
            <p:cNvPr id="104" name=""/>
            <p:cNvSpPr/>
            <p:nvPr/>
          </p:nvSpPr>
          <p:spPr>
            <a:xfrm>
              <a:off x="6553080" y="4084560"/>
              <a:ext cx="9907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43800" y="3627360"/>
              <a:ext cx="5335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43600" y="4465800"/>
              <a:ext cx="60948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00800" y="2666880"/>
              <a:ext cx="121932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levan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19920" y="571500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xed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Costs and Uni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Cost (or Average Cos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 / some number of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8 - 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36232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verage 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Total manufacturing costs / Number of units produc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980,000 / 1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98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41972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or average costs must be interpreted with cau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 volume increases, the unit or average cost falls as the fixed costs are spread over a larger number of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Invento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tail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rchandis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590920"/>
            <a:ext cx="8382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material inventory (stock awaiting use in the manufacturing proc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rk-in process inventory (partially completed goods on the shop floo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ished goods inventory (goods completed but not yet sold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 and Produ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io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e expensed on the income statement as they ar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operating costs (excluding cost of goods sol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: selling, general and administrativ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e inventoried on the balance sheet and expensed only when the product or service is sol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inventoriabl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: materials and labour (manufactur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 - 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7:02:44Z</dcterms:created>
  <dc:creator>User</dc:creator>
  <dc:description/>
  <dc:language>en-US</dc:language>
  <cp:lastModifiedBy>John Moore</cp:lastModifiedBy>
  <cp:lastPrinted>1999-06-02T19:49:26Z</cp:lastPrinted>
  <dcterms:modified xsi:type="dcterms:W3CDTF">2003-03-22T13:37:54Z</dcterms:modified>
  <cp:revision>11</cp:revision>
  <dc:subject/>
  <dc:title>Costs and Cost Objects</dc:title>
</cp:coreProperties>
</file>